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400B-B147-4C0F-9B8C-7ED15B0C3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0AC1-0F82-4980-BA38-5C706B77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BD05-E647-42D5-8BE7-275932E2B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AE34-629E-4028-A12B-CE4C3A5BF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EC6F-0A51-4BC5-A1B3-4EEBF36F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2F1D-C2EB-4E0B-A522-BDD9A4CC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ECE5-19BC-443D-AA60-6F6411AB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1BB7-45FD-4B75-8FB3-37FEDAE6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F0E6-56A5-4D1C-AD23-08400307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F14E-ED7A-492A-8828-E4343767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9442-D686-4F25-9178-1B4F880E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BCF7-38D5-4C9D-B33A-C8ECBAD4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MS Gothic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M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lvl="1" marL="660960" indent="-254160">
              <a:spcBef>
                <a:spcPts val="799"/>
              </a:spcBef>
              <a:buClr>
                <a:srgbClr val="ffff00"/>
              </a:buClr>
              <a:buFont typeface="M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lvl="2" marL="1017000" indent="-203400">
              <a:spcBef>
                <a:spcPts val="799"/>
              </a:spcBef>
              <a:buClr>
                <a:srgbClr val="ffff00"/>
              </a:buClr>
              <a:buFont typeface="M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lvl="3" marL="1424160" indent="-203400">
              <a:spcBef>
                <a:spcPts val="799"/>
              </a:spcBef>
              <a:buClr>
                <a:srgbClr val="ffff00"/>
              </a:buClr>
              <a:buFont typeface="M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lvl="4" marL="1830960" indent="-203400">
              <a:spcBef>
                <a:spcPts val="799"/>
              </a:spcBef>
              <a:buClr>
                <a:srgbClr val="ffff00"/>
              </a:buClr>
              <a:buFont typeface="M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lvl="5" marL="1830960" indent="-203400">
              <a:spcBef>
                <a:spcPts val="799"/>
              </a:spcBef>
              <a:buClr>
                <a:srgbClr val="ffff00"/>
              </a:buClr>
              <a:buFont typeface="M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lvl="6" marL="1830960" indent="-203400">
              <a:spcBef>
                <a:spcPts val="799"/>
              </a:spcBef>
              <a:buClr>
                <a:srgbClr val="ffff00"/>
              </a:buClr>
              <a:buFont typeface="M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MS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MS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MS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MS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3958-AD5C-4860-B50D-2D08FE2C150C}" type="slidenum">
              <a:rPr b="0" lang="en-US" sz="1400" spc="-1" strike="noStrike">
                <a:solidFill>
                  <a:srgbClr val="ffff00"/>
                </a:solidFill>
                <a:latin typeface="MS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0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1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3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image" Target="../media/image1.jpeg"/><Relationship Id="rId26" Type="http://schemas.openxmlformats.org/officeDocument/2006/relationships/slide" Target="slide4.xml"/><Relationship Id="rId27" Type="http://schemas.openxmlformats.org/officeDocument/2006/relationships/slide" Target="slide21.xml"/><Relationship Id="rId28" Type="http://schemas.openxmlformats.org/officeDocument/2006/relationships/slide" Target="slide8.xml"/><Relationship Id="rId29" Type="http://schemas.openxmlformats.org/officeDocument/2006/relationships/slide" Target="slide10.xml"/><Relationship Id="rId30" Type="http://schemas.openxmlformats.org/officeDocument/2006/relationships/slide" Target="slide24.xml"/><Relationship Id="rId31" Type="http://schemas.openxmlformats.org/officeDocument/2006/relationships/slide" Target="slide18.xml"/><Relationship Id="rId32" Type="http://schemas.openxmlformats.org/officeDocument/2006/relationships/slide" Target="slide6.xml"/><Relationship Id="rId33" Type="http://schemas.openxmlformats.org/officeDocument/2006/relationships/slide" Target="slide16.xml"/><Relationship Id="rId34" Type="http://schemas.openxmlformats.org/officeDocument/2006/relationships/slide" Target="slide28.xml"/><Relationship Id="rId35" Type="http://schemas.openxmlformats.org/officeDocument/2006/relationships/slide" Target="slide14.xml"/><Relationship Id="rId36" Type="http://schemas.openxmlformats.org/officeDocument/2006/relationships/slide" Target="slide13.xml"/><Relationship Id="rId37" Type="http://schemas.openxmlformats.org/officeDocument/2006/relationships/slide" Target="slide25.xml"/><Relationship Id="rId38" Type="http://schemas.openxmlformats.org/officeDocument/2006/relationships/slide" Target="slide12.xml"/><Relationship Id="rId39" Type="http://schemas.openxmlformats.org/officeDocument/2006/relationships/slide" Target="slide9.xml"/><Relationship Id="rId40" Type="http://schemas.openxmlformats.org/officeDocument/2006/relationships/slide" Target="slide22.xml"/><Relationship Id="rId41" Type="http://schemas.openxmlformats.org/officeDocument/2006/relationships/slide" Target="slide5.xml"/><Relationship Id="rId42" Type="http://schemas.openxmlformats.org/officeDocument/2006/relationships/slide" Target="slide23.xml"/><Relationship Id="rId43" Type="http://schemas.openxmlformats.org/officeDocument/2006/relationships/slide" Target="slide19.xml"/><Relationship Id="rId44" Type="http://schemas.openxmlformats.org/officeDocument/2006/relationships/slide" Target="slide7.xml"/><Relationship Id="rId45" Type="http://schemas.openxmlformats.org/officeDocument/2006/relationships/slide" Target="slide27.xml"/><Relationship Id="rId46" Type="http://schemas.openxmlformats.org/officeDocument/2006/relationships/slide" Target="slide15.xml"/><Relationship Id="rId47" Type="http://schemas.openxmlformats.org/officeDocument/2006/relationships/slide" Target="slide26.xml"/><Relationship Id="rId48" Type="http://schemas.openxmlformats.org/officeDocument/2006/relationships/slide" Target="slide11.xml"/><Relationship Id="rId49" Type="http://schemas.openxmlformats.org/officeDocument/2006/relationships/slide" Target="slide20.xml"/><Relationship Id="rId50" Type="http://schemas.openxmlformats.org/officeDocument/2006/relationships/slide" Target="slide17.xml"/><Relationship Id="rId51" Type="http://schemas.openxmlformats.org/officeDocument/2006/relationships/image" Target="../media/image2.png"/><Relationship Id="rId5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9.xml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1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9880" y="838080"/>
            <a:ext cx="41148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ed121"/>
                    </a:gs>
                  </a:gsLst>
                  <a:lin ang="5400000"/>
                </a:gradFill>
                <a:latin typeface="Impact"/>
              </a:rPr>
              <a:t>AP European Histo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ed12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3352680"/>
            <a:ext cx="8001000" cy="2411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0" y="5668200"/>
            <a:ext cx="419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APEH: Review Quiz #2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52280" y="624852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57600" y="62478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Questions by Sara Obernesser, Class of 2007</a:t>
            </a:r>
            <a:endParaRPr b="0" lang="en-US" sz="18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50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0160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litical Theory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167652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is philosophy to rule arose from the quote “the greatest good for the greatest number.”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litical Theory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175248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Karl Marx and this man jointly wrote the “Communist Manifesto.”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litical Theory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3276720"/>
            <a:ext cx="81532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is French thinker’s ideas influenced the development of the nation-state and political absolutism. His major work was entitled </a:t>
            </a:r>
            <a:r>
              <a:rPr b="0" i="1" lang="en-US" sz="3000" spc="-1" strike="noStrike">
                <a:solidFill>
                  <a:srgbClr val="ffff00"/>
                </a:solidFill>
                <a:latin typeface="Times New Roman"/>
              </a:rPr>
              <a:t>The Six Books of the Republic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486080" y="1066680"/>
            <a:ext cx="6172200" cy="2057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harcoal"/>
              </a:rPr>
              <a:t>Daily Double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harcoal"/>
              <a:ea typeface="Charco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litical Theory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6" name="">
            <a:hlinkClick r:id="rId2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1676520"/>
            <a:ext cx="6705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e theory that history follows a cyclical pattern of thesis, antithesis and synthesis was developed by this German thinker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rts with “M”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167652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In the years following the Congress of Vienna (1815), this system was developed to restore peace and order.  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rts with “M”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196524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is radical of the French Revolution was killed by Charlotte Corday as he soaked in his bathtub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rts with “M”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7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8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173664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is religious radical of the Reformation led the Peasants’ Revolt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rts with “M”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2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3" name=""/>
          <p:cNvSpPr/>
          <p:nvPr/>
        </p:nvSpPr>
        <p:spPr>
          <a:xfrm>
            <a:off x="1219320" y="1812960"/>
            <a:ext cx="6705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is British school––which was not for teaching––was a 19th century school of economic thought that promoted laissez-faire. 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rts with “M”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6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167652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8" name=""/>
          <p:cNvSpPr/>
          <p:nvPr/>
        </p:nvSpPr>
        <p:spPr>
          <a:xfrm>
            <a:off x="363600" y="2269800"/>
            <a:ext cx="8475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is Cardinal ran the French government when Louis XIV was a boy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ai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181296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is monastery, palace and burial chamber was built by Philip II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ntestants do not forget to </a:t>
            </a:r>
            <a:endParaRPr b="0" lang="en-US" sz="4000" spc="-1" strike="noStrike">
              <a:solidFill>
                <a:srgbClr val="ffff00"/>
              </a:solidFill>
              <a:latin typeface="MS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lways phrase your question in the form of an answer</a:t>
            </a:r>
            <a:endParaRPr b="0" lang="en-US" sz="4000" spc="-1" strike="noStrike">
              <a:solidFill>
                <a:srgbClr val="ffff00"/>
              </a:solidFill>
              <a:latin typeface="MS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ands on your buzzers it is time to play</a:t>
            </a:r>
            <a:endParaRPr b="0" lang="en-US" sz="40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71680" y="4675320"/>
            <a:ext cx="8001000" cy="2411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6405480"/>
            <a:ext cx="452520" cy="4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ai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67652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eir 1469 marriage led to closer ties for Aragon and Castile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ai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167652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Francisco Franco ultimately emerged as the victor in this conflict that gripped Spain from 1936-39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ai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211788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is capital city of the Moorish kingdom fell to Ferdinand &amp; Isabella in 1492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20160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ai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6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1676520"/>
            <a:ext cx="67053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is ruler controlled the largest empire of his time.  It included Spain, the Holy Roman Empire, the Spanish Netherlands, parts of Italy and most of the New World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20160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PEH Topic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0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2" name=""/>
          <p:cNvSpPr/>
          <p:nvPr/>
        </p:nvSpPr>
        <p:spPr>
          <a:xfrm>
            <a:off x="1219320" y="167652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Charles de Gaulle became the president of the 5th Republic of this country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12528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PEH Topic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4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173664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e first phase of this major historical event was the March (February) Revolution in 1917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20160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PEH Topic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8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9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167652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e German Empire (1871-1918) was also known by this name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20160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PEH Topic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2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4" name=""/>
          <p:cNvSpPr/>
          <p:nvPr/>
        </p:nvSpPr>
        <p:spPr>
          <a:xfrm>
            <a:off x="1219320" y="167652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Napoleon Bonparte first gained political power in France during this fourth phase of the French Revolution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12528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PEH Topic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6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8" name=""/>
          <p:cNvSpPr/>
          <p:nvPr/>
        </p:nvSpPr>
        <p:spPr>
          <a:xfrm>
            <a:off x="1219320" y="167652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e Peace of Paris, signed in 1763, ended this war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125280"/>
            <a:ext cx="182880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rance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0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1" name=""/>
          <p:cNvSpPr/>
          <p:nvPr/>
        </p:nvSpPr>
        <p:spPr>
          <a:xfrm>
            <a:off x="1219320" y="22860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o as CARDINAL RICHELIEU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MS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MS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MS Gothic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0880" y="55627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80880" y="35812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80880" y="25909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380880" y="45720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33720" y="16002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3886200" y="16002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2133720" y="55627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2133720" y="45720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0"/>
          <a:stretch/>
        </p:blipFill>
        <p:spPr>
          <a:xfrm>
            <a:off x="7391520" y="16002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1"/>
          <a:stretch/>
        </p:blipFill>
        <p:spPr>
          <a:xfrm>
            <a:off x="2133720" y="25909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2"/>
          <a:stretch/>
        </p:blipFill>
        <p:spPr>
          <a:xfrm>
            <a:off x="2133720" y="35812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3"/>
          <a:stretch/>
        </p:blipFill>
        <p:spPr>
          <a:xfrm>
            <a:off x="5638680" y="16002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4"/>
          <a:stretch/>
        </p:blipFill>
        <p:spPr>
          <a:xfrm>
            <a:off x="3886200" y="25909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5"/>
          <a:stretch/>
        </p:blipFill>
        <p:spPr>
          <a:xfrm>
            <a:off x="3886200" y="35812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3886200" y="45720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7"/>
          <a:stretch/>
        </p:blipFill>
        <p:spPr>
          <a:xfrm>
            <a:off x="3886200" y="55627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8"/>
          <a:stretch/>
        </p:blipFill>
        <p:spPr>
          <a:xfrm>
            <a:off x="5638680" y="35812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9"/>
          <a:stretch/>
        </p:blipFill>
        <p:spPr>
          <a:xfrm>
            <a:off x="5638680" y="25909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0"/>
          <a:stretch/>
        </p:blipFill>
        <p:spPr>
          <a:xfrm>
            <a:off x="7391520" y="25909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1"/>
          <a:stretch/>
        </p:blipFill>
        <p:spPr>
          <a:xfrm>
            <a:off x="7391520" y="35812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2"/>
          <a:stretch/>
        </p:blipFill>
        <p:spPr>
          <a:xfrm>
            <a:off x="5638680" y="55627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3"/>
          <a:stretch/>
        </p:blipFill>
        <p:spPr>
          <a:xfrm>
            <a:off x="7391520" y="45720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4"/>
          <a:stretch/>
        </p:blipFill>
        <p:spPr>
          <a:xfrm>
            <a:off x="5638680" y="45720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5"/>
          <a:stretch/>
        </p:blipFill>
        <p:spPr>
          <a:xfrm>
            <a:off x="7391520" y="5562720"/>
            <a:ext cx="1600200" cy="9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0880" y="16002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0" name=""/>
          <p:cNvSpPr/>
          <p:nvPr/>
        </p:nvSpPr>
        <p:spPr>
          <a:xfrm>
            <a:off x="5638680" y="358128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3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55627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5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5909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2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3" name=""/>
          <p:cNvSpPr/>
          <p:nvPr/>
        </p:nvSpPr>
        <p:spPr>
          <a:xfrm>
            <a:off x="7391520" y="16002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1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55627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58128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3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358128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3" action="ppaction://hlinksldjump"/>
              </a:rPr>
              <a:t>$3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7" name=""/>
          <p:cNvSpPr/>
          <p:nvPr/>
        </p:nvSpPr>
        <p:spPr>
          <a:xfrm>
            <a:off x="7391520" y="55627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4" action="ppaction://hlinksldjump"/>
              </a:rPr>
              <a:t>$5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8" name=""/>
          <p:cNvSpPr/>
          <p:nvPr/>
        </p:nvSpPr>
        <p:spPr>
          <a:xfrm>
            <a:off x="3886200" y="16002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5" action="ppaction://hlinksldjump"/>
              </a:rPr>
              <a:t>$1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55627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6" action="ppaction://hlinksldjump"/>
              </a:rPr>
              <a:t>$5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0" name=""/>
          <p:cNvSpPr/>
          <p:nvPr/>
        </p:nvSpPr>
        <p:spPr>
          <a:xfrm>
            <a:off x="7391520" y="25909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7" action="ppaction://hlinksldjump"/>
              </a:rPr>
              <a:t>$2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45720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8" action="ppaction://hlinksldjump"/>
              </a:rPr>
              <a:t>$4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16002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9" action="ppaction://hlinksldjump"/>
              </a:rPr>
              <a:t>$1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45720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0" action="ppaction://hlinksldjump"/>
              </a:rPr>
              <a:t>$4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25909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1" action="ppaction://hlinksldjump"/>
              </a:rPr>
              <a:t>$2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5" name=""/>
          <p:cNvSpPr/>
          <p:nvPr/>
        </p:nvSpPr>
        <p:spPr>
          <a:xfrm>
            <a:off x="5638680" y="55627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2" action="ppaction://hlinksldjump"/>
              </a:rPr>
              <a:t>$5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16002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3" action="ppaction://hlinksldjump"/>
              </a:rPr>
              <a:t>$1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45720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4" action="ppaction://hlinksldjump"/>
              </a:rPr>
              <a:t>$4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45720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5" action="ppaction://hlinksldjump"/>
              </a:rPr>
              <a:t>$4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25909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6" action="ppaction://hlinksldjump"/>
              </a:rPr>
              <a:t>$2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0" name=""/>
          <p:cNvSpPr/>
          <p:nvPr/>
        </p:nvSpPr>
        <p:spPr>
          <a:xfrm>
            <a:off x="7391520" y="358128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7" action="ppaction://hlinksldjump"/>
              </a:rPr>
              <a:t>$3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358128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8" action="ppaction://hlinksldjump"/>
              </a:rPr>
              <a:t>$3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5909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9" action="ppaction://hlinksldjump"/>
              </a:rPr>
              <a:t>$2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3" name=""/>
          <p:cNvSpPr/>
          <p:nvPr/>
        </p:nvSpPr>
        <p:spPr>
          <a:xfrm>
            <a:off x="3886200" y="45720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50" action="ppaction://hlinksldjump"/>
              </a:rPr>
              <a:t>$4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0"/>
            <a:ext cx="1600200" cy="1295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rance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5" name=""/>
          <p:cNvSpPr/>
          <p:nvPr/>
        </p:nvSpPr>
        <p:spPr>
          <a:xfrm>
            <a:off x="2133720" y="0"/>
            <a:ext cx="1600200" cy="1295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olitical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eory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6" name=""/>
          <p:cNvSpPr/>
          <p:nvPr/>
        </p:nvSpPr>
        <p:spPr>
          <a:xfrm>
            <a:off x="3886200" y="0"/>
            <a:ext cx="1600200" cy="1295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tart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ith “M”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0"/>
            <a:ext cx="1600200" cy="1295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pai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0"/>
            <a:ext cx="1600200" cy="1295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PEH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opic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9" name=""/>
          <p:cNvSpPr/>
          <p:nvPr/>
        </p:nvSpPr>
        <p:spPr>
          <a:xfrm>
            <a:off x="7543800" y="645804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6553080"/>
            <a:ext cx="1600200" cy="304920"/>
          </a:xfrm>
          <a:custGeom>
            <a:avLst/>
            <a:gdLst>
              <a:gd name="textAreaLeft" fmla="*/ 19440 w 1600200"/>
              <a:gd name="textAreaRight" fmla="*/ 1580760 w 1600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11847" y="1400"/>
                </a:lnTo>
                <a:lnTo>
                  <a:pt x="1400" y="1400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11847" y="20200"/>
                </a:lnTo>
                <a:lnTo>
                  <a:pt x="111847" y="1400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847" y="20200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Final Jeopardy</a:t>
            </a:r>
            <a:endParaRPr b="0" lang="en-US" sz="16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51"/>
          <a:stretch/>
        </p:blipFill>
        <p:spPr>
          <a:xfrm>
            <a:off x="-177840" y="6680160"/>
            <a:ext cx="355680" cy="35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2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8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4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6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2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8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4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6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72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8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4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6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2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8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14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26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32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38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44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95" nodeType="afterEffect" fill="hold" presetClass="entr" presetID="4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600"/>
                            </p:stCondLst>
                            <p:childTnLst>
                              <p:par>
                                <p:cTn id="99" nodeType="afterEffect" fill="hold" presetClass="entr" presetID="4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200"/>
                            </p:stCondLst>
                            <p:childTnLst>
                              <p:par>
                                <p:cTn id="103" nodeType="afterEffect" fill="hold" presetClass="entr" presetID="4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6800"/>
                            </p:stCondLst>
                            <p:childTnLst>
                              <p:par>
                                <p:cTn id="107" nodeType="afterEffect" fill="hold" presetClass="entr" presetID="4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7400"/>
                            </p:stCondLst>
                            <p:childTnLst>
                              <p:par>
                                <p:cTn id="111" nodeType="afterEffect" fill="hold" presetClass="entr" presetID="4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125280"/>
            <a:ext cx="182880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rance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3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4" name=""/>
          <p:cNvSpPr/>
          <p:nvPr/>
        </p:nvSpPr>
        <p:spPr>
          <a:xfrm>
            <a:off x="1219320" y="259092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the CONTINENTAL SYSTEM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125280"/>
            <a:ext cx="182880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rance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6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7" name="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the MISSISSIPPI BUBBLE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125280"/>
            <a:ext cx="182880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rance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9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0" name=""/>
          <p:cNvSpPr/>
          <p:nvPr/>
        </p:nvSpPr>
        <p:spPr>
          <a:xfrm>
            <a:off x="1219320" y="266688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the WAR OF SPANISH SUCCESSION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125280"/>
            <a:ext cx="182880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rance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2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the MOUNTAIN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litical Theory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5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25909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o was MACHIAVELLI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litical Theory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8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9" name=""/>
          <p:cNvSpPr/>
          <p:nvPr/>
        </p:nvSpPr>
        <p:spPr>
          <a:xfrm>
            <a:off x="1219320" y="25909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is UTILITARIANISM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litical Theory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1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27432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o was ENGELS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litical Theory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4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5" name=""/>
          <p:cNvSpPr/>
          <p:nvPr/>
        </p:nvSpPr>
        <p:spPr>
          <a:xfrm>
            <a:off x="1219320" y="266688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o was JEAN BODIN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litical Theory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7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8" name="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o was HEGEL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rts with “M”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1" name=""/>
          <p:cNvSpPr/>
          <p:nvPr/>
        </p:nvSpPr>
        <p:spPr>
          <a:xfrm>
            <a:off x="1219320" y="266688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the METTERNICH SYSTEM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MS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MS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167652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is chief minister of Louis XIII laid the foundation of an absolute monarchy in France 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8305920" y="106668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8229600" y="762120"/>
            <a:ext cx="609480" cy="60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25280"/>
            <a:ext cx="182880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rance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0" name=""/>
          <p:cNvSpPr/>
          <p:nvPr/>
        </p:nvSpPr>
        <p:spPr>
          <a:xfrm>
            <a:off x="4757760" y="2948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rts with “M”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5909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o was MARAT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rts with “M”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25909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o was MUNZER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rts with “M”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0" name=""/>
          <p:cNvSpPr/>
          <p:nvPr/>
        </p:nvSpPr>
        <p:spPr>
          <a:xfrm>
            <a:off x="1219320" y="259092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the MANCHESTER SCHOOL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rts with “M”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266688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o was MAZZARIN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ai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6" name=""/>
          <p:cNvSpPr/>
          <p:nvPr/>
        </p:nvSpPr>
        <p:spPr>
          <a:xfrm>
            <a:off x="1219320" y="25909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ESCORIAL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ai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8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2514600"/>
            <a:ext cx="670536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o were FERDINAND &amp; ISABELLA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ai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1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2" name="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the SPANISH CIVIL WAR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ai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4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5" name=""/>
          <p:cNvSpPr/>
          <p:nvPr/>
        </p:nvSpPr>
        <p:spPr>
          <a:xfrm>
            <a:off x="1219320" y="25909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GRANADA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ai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7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8" name="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o was CHARLES V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204840"/>
            <a:ext cx="190512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PEH Topic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0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1" name="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is FRANCE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25280"/>
            <a:ext cx="182880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rance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181296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is system, formulated by Napoleon I, called for the boycotting of all British goods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128520"/>
            <a:ext cx="190512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PEH Topic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3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59092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the RUSSIAN REVOLUTION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128520"/>
            <a:ext cx="190512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PEH Topic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the SECOND REICH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128520"/>
            <a:ext cx="190512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PEH Topic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9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266688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the CONSULATE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PEH Topic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92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93" name="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was the SEVEN YEARS’ WAR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MS Gothic"/>
              </a:rPr>
              <a:t>Final Jeopardy</a:t>
            </a:r>
            <a:endParaRPr b="0" lang="en-US" sz="60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60000" y="1447560"/>
            <a:ext cx="84582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Category is …...</a:t>
            </a:r>
            <a:endParaRPr b="0" lang="en-US" sz="4000" spc="-1" strike="noStrike">
              <a:solidFill>
                <a:srgbClr val="ffff00"/>
              </a:solidFill>
              <a:latin typeface="MS Gothic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S Gothic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97" name=""/>
          <p:cNvSpPr/>
          <p:nvPr/>
        </p:nvSpPr>
        <p:spPr>
          <a:xfrm>
            <a:off x="1371600" y="2651040"/>
            <a:ext cx="592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cientific Revolution</a:t>
            </a:r>
            <a:endParaRPr b="0" lang="en-US" sz="48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98" name=""/>
          <p:cNvSpPr/>
          <p:nvPr/>
        </p:nvSpPr>
        <p:spPr>
          <a:xfrm>
            <a:off x="1035000" y="4228200"/>
            <a:ext cx="672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ke your wagers please ….</a:t>
            </a:r>
            <a:endParaRPr b="0" lang="en-US" sz="4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99" name="">
            <a:hlinkClick r:id="" action="ppaction://hlinkshowjump?jump=nextslide"/>
          </p:cNvPr>
          <p:cNvSpPr/>
          <p:nvPr/>
        </p:nvSpPr>
        <p:spPr>
          <a:xfrm>
            <a:off x="8229600" y="5791320"/>
            <a:ext cx="609480" cy="9144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914400"/>
              <a:gd name="textAreaBottom" fmla="*/ 875160 h 914400"/>
            </a:gdLst>
            <a:ahLst/>
            <a:rect l="textAreaLeft" t="textAreaTop" r="textAreaRight" b="textAreaBottom"/>
            <a:pathLst>
              <a:path w="21600" h="32400">
                <a:moveTo>
                  <a:pt x="0" y="0"/>
                </a:moveTo>
                <a:lnTo>
                  <a:pt x="21600" y="0"/>
                </a:lnTo>
                <a:lnTo>
                  <a:pt x="21600" y="32400"/>
                </a:lnTo>
                <a:lnTo>
                  <a:pt x="0" y="32400"/>
                </a:lnTo>
                <a:close/>
              </a:path>
              <a:path fill="lightenLess" w="21600" h="324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00">
                <a:moveTo>
                  <a:pt x="21600" y="0"/>
                </a:moveTo>
                <a:lnTo>
                  <a:pt x="21600" y="32400"/>
                </a:lnTo>
                <a:lnTo>
                  <a:pt x="20200" y="31000"/>
                </a:lnTo>
                <a:lnTo>
                  <a:pt x="20200" y="1400"/>
                </a:lnTo>
                <a:close/>
              </a:path>
              <a:path fill="darkenLess" w="21600" h="32400">
                <a:moveTo>
                  <a:pt x="21600" y="32400"/>
                </a:moveTo>
                <a:lnTo>
                  <a:pt x="0" y="32400"/>
                </a:lnTo>
                <a:lnTo>
                  <a:pt x="1400" y="31000"/>
                </a:lnTo>
                <a:lnTo>
                  <a:pt x="20200" y="31000"/>
                </a:lnTo>
                <a:close/>
              </a:path>
              <a:path fill="lighten" w="21600" h="32400">
                <a:moveTo>
                  <a:pt x="0" y="32400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00"/>
                </a:lnTo>
                <a:close/>
              </a:path>
              <a:path fill="darken" w="21600" h="32400">
                <a:moveTo>
                  <a:pt x="3794" y="9194"/>
                </a:moveTo>
                <a:lnTo>
                  <a:pt x="17806" y="16200"/>
                </a:lnTo>
                <a:lnTo>
                  <a:pt x="3794" y="232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300" name="Untitled:Jeopardy! Folder:Jeopardy Template:think.mp3" descr=""/>
          <p:cNvPicPr/>
          <p:nvPr/>
        </p:nvPicPr>
        <p:blipFill>
          <a:blip r:embed="rId1"/>
          <a:stretch/>
        </p:blipFill>
        <p:spPr>
          <a:xfrm>
            <a:off x="152280" y="5791320"/>
            <a:ext cx="914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-29160" y="-1080"/>
            <a:ext cx="182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</a:t>
            </a:r>
            <a:endParaRPr b="0" lang="en-US" sz="4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401004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03" name=""/>
          <p:cNvSpPr/>
          <p:nvPr/>
        </p:nvSpPr>
        <p:spPr>
          <a:xfrm>
            <a:off x="746280" y="4152960"/>
            <a:ext cx="382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04" name=""/>
          <p:cNvSpPr/>
          <p:nvPr/>
        </p:nvSpPr>
        <p:spPr>
          <a:xfrm>
            <a:off x="3946680" y="4267080"/>
            <a:ext cx="397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3580560"/>
            <a:ext cx="73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is French physician developed stitches to close wounds and ointment for preventing infection.</a:t>
            </a:r>
            <a:endParaRPr b="0" lang="en-US" sz="40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001000" cy="241128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308" name=""/>
          <p:cNvSpPr/>
          <p:nvPr/>
        </p:nvSpPr>
        <p:spPr>
          <a:xfrm>
            <a:off x="7467480" y="5791320"/>
            <a:ext cx="1676520" cy="1066680"/>
          </a:xfrm>
          <a:custGeom>
            <a:avLst/>
            <a:gdLst>
              <a:gd name="textAreaLeft" fmla="*/ 69120 w 1676520"/>
              <a:gd name="textAreaRight" fmla="*/ 1607400 w 16765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09" name=""/>
          <p:cNvSpPr/>
          <p:nvPr/>
        </p:nvSpPr>
        <p:spPr>
          <a:xfrm>
            <a:off x="7573680" y="609480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MS Gothic"/>
              </a:rPr>
              <a:t>What is</a:t>
            </a: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Who was</a:t>
            </a:r>
            <a:endParaRPr b="0" lang="en-US" sz="5400" spc="-1" strike="noStrike">
              <a:solidFill>
                <a:srgbClr val="ffff00"/>
              </a:solidFill>
              <a:latin typeface="MS Gothic"/>
            </a:endParaRPr>
          </a:p>
          <a:p>
            <a:pPr lvl="1" marL="7430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12" name="">
            <a:hlinkClick r:id="" action="ppaction://hlinkshowjump?jump=firstslide"/>
          </p:cNvPr>
          <p:cNvSpPr/>
          <p:nvPr/>
        </p:nvSpPr>
        <p:spPr>
          <a:xfrm>
            <a:off x="8153280" y="60199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14855" y="3837"/>
                </a:moveTo>
                <a:lnTo>
                  <a:pt x="17431" y="6448"/>
                </a:lnTo>
                <a:lnTo>
                  <a:pt x="17431" y="4707"/>
                </a:lnTo>
                <a:lnTo>
                  <a:pt x="19207" y="4707"/>
                </a:lnTo>
                <a:lnTo>
                  <a:pt x="19207" y="8224"/>
                </a:lnTo>
                <a:lnTo>
                  <a:pt x="21818" y="10800"/>
                </a:lnTo>
                <a:lnTo>
                  <a:pt x="20164" y="10800"/>
                </a:lnTo>
                <a:lnTo>
                  <a:pt x="20164" y="17989"/>
                </a:lnTo>
                <a:lnTo>
                  <a:pt x="9546" y="17989"/>
                </a:lnTo>
                <a:lnTo>
                  <a:pt x="9546" y="10800"/>
                </a:lnTo>
                <a:lnTo>
                  <a:pt x="7892" y="10800"/>
                </a:lnTo>
                <a:close/>
              </a:path>
              <a:path fill="darkenLess" w="29710" h="21600">
                <a:moveTo>
                  <a:pt x="17431" y="6448"/>
                </a:moveTo>
                <a:lnTo>
                  <a:pt x="17431" y="4707"/>
                </a:lnTo>
                <a:lnTo>
                  <a:pt x="19207" y="4707"/>
                </a:lnTo>
                <a:lnTo>
                  <a:pt x="19207" y="8224"/>
                </a:lnTo>
                <a:close/>
              </a:path>
              <a:path fill="darkenLess" w="29710" h="21600">
                <a:moveTo>
                  <a:pt x="13932" y="14299"/>
                </a:moveTo>
                <a:lnTo>
                  <a:pt x="15777" y="14299"/>
                </a:lnTo>
                <a:lnTo>
                  <a:pt x="15777" y="17989"/>
                </a:lnTo>
                <a:lnTo>
                  <a:pt x="20164" y="17989"/>
                </a:lnTo>
                <a:lnTo>
                  <a:pt x="20164" y="10800"/>
                </a:lnTo>
                <a:lnTo>
                  <a:pt x="9546" y="10800"/>
                </a:lnTo>
                <a:lnTo>
                  <a:pt x="9546" y="17989"/>
                </a:lnTo>
                <a:lnTo>
                  <a:pt x="13932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13" name=""/>
          <p:cNvSpPr/>
          <p:nvPr/>
        </p:nvSpPr>
        <p:spPr>
          <a:xfrm>
            <a:off x="343080" y="342828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AMBROIS PARÉ</a:t>
            </a:r>
            <a:endParaRPr b="0" lang="en-US" sz="8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19320" y="167652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is occurred in 1718 as a result of investors buying shares too quickly from the Mississippi Company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25280"/>
            <a:ext cx="182880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rance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19320" y="167652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is war occurred to check the Bourbon king Louis XIV’s expansionism into the Spanish Empire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25280"/>
            <a:ext cx="182880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rance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19320" y="1736640"/>
            <a:ext cx="67053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This faction of the Jacobin Party was the most radical element of the French Revolution. They were known to sit in the highest seats in the National Convention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25280"/>
            <a:ext cx="182880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rance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19320" y="167652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He wrote that it was “better to be feared than loved.”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litical Theory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0" name="">
            <a:hlinkClick r:id="rId2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6T12:58:12Z</dcterms:created>
  <dc:creator>System Administrator</dc:creator>
  <dc:description/>
  <dc:language>en-US</dc:language>
  <cp:lastModifiedBy>NHCS</cp:lastModifiedBy>
  <cp:lastPrinted>2005-04-28T14:49:40Z</cp:lastPrinted>
  <dcterms:modified xsi:type="dcterms:W3CDTF">2005-04-28T16:50:55Z</dcterms:modified>
  <cp:revision>508</cp:revision>
  <dc:subject/>
  <dc:title>No Slide Title</dc:title>
</cp:coreProperties>
</file>